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415B-E826-48DB-A074-4D6A3412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9E14-3FFA-452F-A16A-9097A819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73CA-0D2E-47A6-9643-35AF1BA5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6450-D57A-4336-BB5F-14DB959A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4E1C-0F30-47E9-9F94-4535C1BB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4FE8-99B6-4E0C-8734-8BEA5B2E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11FD-F197-4008-AA7B-C24AC3FD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6730-60D4-4C7F-9EAC-1878A342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8CF4-2A5A-464C-8237-008DE82B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D963-3AFA-4C69-BFB7-2D04024E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6F4A-BCE6-4024-BFD4-B782BF77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20D5-D43F-4E4C-A093-D2D3C5D5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6F4C-6685-48F2-864B-37759968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BDB4-FC00-43DB-AEF7-5A35528E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0910-1031-4594-9E33-9BBAD34E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F11C-771A-4698-BD75-C609BE9A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0C09-6FA7-41D7-9492-CEEA7E89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92A8-0D52-4783-A608-5899484E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52EF-9685-46F1-8973-AF095CE0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C810-DB82-421E-83D6-D0BA954D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E265-76B7-48FC-8368-29685BE4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F723-A24A-4836-9CDD-318CBAB7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2D54-35B5-4CE8-997A-9D0084D4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3E22-057F-413A-A47F-22F141AE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solidFill>
            <a:srgbClr val="00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e1900"/>
              </a:gs>
              <a:gs pos="50000">
                <a:srgbClr val="ff3300"/>
              </a:gs>
              <a:gs pos="100000">
                <a:srgbClr val="7e1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1428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BEA0-C137-4CE8-96CA-1C536AB0810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86600" y="6492960"/>
            <a:ext cx="175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IDEA</a:t>
            </a:r>
            <a:r>
              <a:rPr b="1" i="1" lang="en-US" sz="2400" spc="-1" strike="noStrike">
                <a:solidFill>
                  <a:srgbClr val="ffff66"/>
                </a:solidFill>
                <a:latin typeface="Verdana"/>
              </a:rPr>
              <a:t>TI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solidFill>
            <a:srgbClr val="00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1428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0D48-5859-4E24-9F02-9C0FC8EF9F0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infoasiva@asiva.cl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Chip" descr=""/>
          <p:cNvPicPr/>
          <p:nvPr/>
        </p:nvPicPr>
        <p:blipFill>
          <a:blip r:embed="rId1"/>
          <a:stretch/>
        </p:blipFill>
        <p:spPr>
          <a:xfrm>
            <a:off x="1295280" y="38098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5800" y="91440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66"/>
                </a:solidFill>
                <a:latin typeface="Verdana"/>
              </a:rPr>
              <a:t>GENERACION DE UN CLUSTER TIC EN VALPARAISO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40240" y="5410080"/>
            <a:ext cx="249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Verdana"/>
              </a:rPr>
              <a:t>Andrés Guarel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Verdana"/>
              </a:rPr>
              <a:t>Director AS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</a:rPr>
              <a:t>4. Estudio realizado por JICA </a:t>
            </a:r>
            <a:br>
              <a:rPr sz="36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      (Japan Internacional Cooperation Agency - 2001)</a:t>
            </a:r>
            <a:br>
              <a:rPr sz="2000"/>
            </a:b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3" name="mapa%20sudamerica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3352680" cy="4343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52280" y="3276720"/>
            <a:ext cx="5257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Estudio Desarrollo Económico Equilibrado de Reg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Concepto de Gateway Integr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Identificación de un potencial para el desarrollo de la industria TIC en Valparaíso (requisit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</a:rPr>
              <a:t>5. Iniciativa y Apoyo del Gobierno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86600" y="6483240"/>
            <a:ext cx="175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Verdana"/>
              </a:rPr>
              <a:t>IDEA</a:t>
            </a:r>
            <a:r>
              <a:rPr b="1" i="1" lang="en-US" sz="2400" spc="-1" strike="noStrike">
                <a:solidFill>
                  <a:srgbClr val="ffff66"/>
                </a:solidFill>
                <a:latin typeface="Verdana"/>
              </a:rPr>
              <a:t>TI</a:t>
            </a:r>
            <a:r>
              <a:rPr b="1" i="1" lang="en-US" sz="2400" spc="-1" strike="noStrike">
                <a:solidFill>
                  <a:srgbClr val="0066cc"/>
                </a:solidFill>
                <a:latin typeface="Verdana"/>
              </a:rPr>
              <a:t>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2362320"/>
            <a:ext cx="838188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Modernización de servicios del sector públ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Descentralización y desarrollo en reg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Asignación fondos a programas CORFO industria 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Asignación de fondos de desarrollo regional (FND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Inversión pública en infraestructura v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Recuperación del patrimonio cultural-arquitectón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Visión de largo pla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</a:rPr>
              <a:t>Valparaíso: un amplio espacio para empresas emergente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9" name="valpo1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65689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Potenciar el desarrollo del cluster TI, activando la red de contactos entre la industria y el sector público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Promover la inversión en infraestructura tecnológic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Facilitar la instalación de nuevas empresas en la zon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Generar sinergía entre empresas TIC y universidad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Desarrollar capacidad exportador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Generar confianza en este proyecto de largo plazo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</a:rPr>
              <a:t>Misión de IDEATIV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66"/>
                </a:solidFill>
                <a:latin typeface="Verdana"/>
              </a:rPr>
              <a:t>Proyectos de IDEATIVA</a:t>
            </a:r>
            <a:r>
              <a:rPr b="0" lang="es-ES" sz="4400" spc="-1" strike="noStrike">
                <a:solidFill>
                  <a:srgbClr val="ffff66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523880" y="2514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Actualmente en ejecu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86600" y="6483240"/>
            <a:ext cx="175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Verdana"/>
              </a:rPr>
              <a:t>IDEA</a:t>
            </a:r>
            <a:r>
              <a:rPr b="1" i="1" lang="en-US" sz="2400" spc="-1" strike="noStrike">
                <a:solidFill>
                  <a:srgbClr val="ffff66"/>
                </a:solidFill>
                <a:latin typeface="Verdana"/>
              </a:rPr>
              <a:t>TI</a:t>
            </a:r>
            <a:r>
              <a:rPr b="1" i="1" lang="en-US" sz="2400" spc="-1" strike="noStrike">
                <a:solidFill>
                  <a:srgbClr val="0066cc"/>
                </a:solidFill>
                <a:latin typeface="Verdana"/>
              </a:rPr>
              <a:t>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Computer%20lab" descr=""/>
          <p:cNvPicPr/>
          <p:nvPr/>
        </p:nvPicPr>
        <p:blipFill>
          <a:blip r:embed="rId1"/>
          <a:stretch/>
        </p:blipFill>
        <p:spPr>
          <a:xfrm>
            <a:off x="609480" y="3886200"/>
            <a:ext cx="2463840" cy="1635120"/>
          </a:xfrm>
          <a:prstGeom prst="rect">
            <a:avLst/>
          </a:prstGeom>
          <a:ln w="0">
            <a:noFill/>
          </a:ln>
        </p:spPr>
      </p:pic>
      <p:pic>
        <p:nvPicPr>
          <p:cNvPr id="136" name="Hombre%20y%20computador%20en%20playa" descr=""/>
          <p:cNvPicPr/>
          <p:nvPr/>
        </p:nvPicPr>
        <p:blipFill>
          <a:blip r:embed="rId2"/>
          <a:stretch/>
        </p:blipFill>
        <p:spPr>
          <a:xfrm>
            <a:off x="3352680" y="5105520"/>
            <a:ext cx="2362320" cy="1600200"/>
          </a:xfrm>
          <a:prstGeom prst="rect">
            <a:avLst/>
          </a:prstGeom>
          <a:ln w="0">
            <a:noFill/>
          </a:ln>
        </p:spPr>
      </p:pic>
      <p:pic>
        <p:nvPicPr>
          <p:cNvPr id="137" name="Notebook%20al%20atardecer%20en%20playa" descr=""/>
          <p:cNvPicPr/>
          <p:nvPr/>
        </p:nvPicPr>
        <p:blipFill>
          <a:blip r:embed="rId3"/>
          <a:stretch/>
        </p:blipFill>
        <p:spPr>
          <a:xfrm>
            <a:off x="5943600" y="35942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Verdana"/>
              </a:rPr>
              <a:t>Condominio Tecnológico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Evaluación para la construcción de un condominio tecnológico en Valparaíso (2002)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Proveer una infraestructura adecuad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Reducir plazos de instalación nuevas empresa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Reducir costos con servicios compartido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Propiciar la asociativida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I&amp;D en comercialización de TI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Desarrollar sinergía en promoción y marketing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Potenciar capacidad exportador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6600" y="6483240"/>
            <a:ext cx="175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Verdana"/>
              </a:rPr>
              <a:t>IDEA</a:t>
            </a:r>
            <a:r>
              <a:rPr b="1" i="1" lang="en-US" sz="2400" spc="-1" strike="noStrike">
                <a:solidFill>
                  <a:srgbClr val="ffff66"/>
                </a:solidFill>
                <a:latin typeface="Verdana"/>
              </a:rPr>
              <a:t>TI</a:t>
            </a:r>
            <a:r>
              <a:rPr b="1" i="1" lang="en-US" sz="2400" spc="-1" strike="noStrike">
                <a:solidFill>
                  <a:srgbClr val="0066cc"/>
                </a:solidFill>
                <a:latin typeface="Verdana"/>
              </a:rPr>
              <a:t>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Beneficios del Condominio Tecnológico para el Sector Público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Disponer de empresas organizadas, proactivas y cooperadoras, para fomentar el desarrollo conjunto de iniciativas de  interés para CORFO y otras Instituciones Públicas que promueven la atracción de inversiones TI a la V Regió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Reducir el plazo de retorno de los subsidios otorgados por el estado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6483240"/>
            <a:ext cx="175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Verdana"/>
              </a:rPr>
              <a:t>IDEA</a:t>
            </a:r>
            <a:r>
              <a:rPr b="1" i="1" lang="en-US" sz="2400" spc="-1" strike="noStrike">
                <a:solidFill>
                  <a:srgbClr val="ffff66"/>
                </a:solidFill>
                <a:latin typeface="Verdana"/>
              </a:rPr>
              <a:t>TI</a:t>
            </a:r>
            <a:r>
              <a:rPr b="1" i="1" lang="en-US" sz="2400" spc="-1" strike="noStrike">
                <a:solidFill>
                  <a:srgbClr val="0066cc"/>
                </a:solidFill>
                <a:latin typeface="Verdana"/>
              </a:rPr>
              <a:t>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Introducir TI en Industria &amp; Servicio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Aplicar TIC 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Servicios marítimo portuari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Turism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Sector agrícola exportad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Educació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Servicios públic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Sector industri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Más que un proyecto región, es un desafío paí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6483240"/>
            <a:ext cx="175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Verdana"/>
              </a:rPr>
              <a:t>IDEA</a:t>
            </a:r>
            <a:r>
              <a:rPr b="1" i="1" lang="en-US" sz="2400" spc="-1" strike="noStrike">
                <a:solidFill>
                  <a:srgbClr val="ffff66"/>
                </a:solidFill>
                <a:latin typeface="Verdana"/>
              </a:rPr>
              <a:t>TI</a:t>
            </a:r>
            <a:r>
              <a:rPr b="1" i="1" lang="en-US" sz="2400" spc="-1" strike="noStrike">
                <a:solidFill>
                  <a:srgbClr val="0066cc"/>
                </a:solidFill>
                <a:latin typeface="Verdana"/>
              </a:rPr>
              <a:t>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cubadora de Negocios TIC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Misión: desarrollar empresa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Se utilizará el programa FDI de CORFO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Trabajo conjunto con Universidad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Apoyo al la nueva empresa en su gestión legal y tributaria, análisis de mercado y promoció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Contarán con infraestructura básica en el Condominio Tecnológico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6600" y="6483240"/>
            <a:ext cx="175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Verdana"/>
              </a:rPr>
              <a:t>IDEA</a:t>
            </a:r>
            <a:r>
              <a:rPr b="1" i="1" lang="en-US" sz="2400" spc="-1" strike="noStrike">
                <a:solidFill>
                  <a:srgbClr val="ffff66"/>
                </a:solidFill>
                <a:latin typeface="Verdana"/>
              </a:rPr>
              <a:t>TI</a:t>
            </a:r>
            <a:r>
              <a:rPr b="1" i="1" lang="en-US" sz="2400" spc="-1" strike="noStrike">
                <a:solidFill>
                  <a:srgbClr val="0066cc"/>
                </a:solidFill>
                <a:latin typeface="Verdana"/>
              </a:rPr>
              <a:t>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Laptop" descr=""/>
          <p:cNvPicPr/>
          <p:nvPr/>
        </p:nvPicPr>
        <p:blipFill>
          <a:blip r:embed="rId1"/>
          <a:stretch/>
        </p:blipFill>
        <p:spPr>
          <a:xfrm>
            <a:off x="6934320" y="4952880"/>
            <a:ext cx="182880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560" y="42667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3300"/>
                </a:solidFill>
                <a:uFillTx/>
                <a:latin typeface="Verdana"/>
                <a:hlinkClick r:id="rId1"/>
              </a:rPr>
              <a:t>infoasiva@asiva.cl</a:t>
            </a:r>
            <a:br>
              <a:rPr sz="3600"/>
            </a:br>
            <a:br>
              <a:rPr sz="3600"/>
            </a:br>
            <a:r>
              <a:rPr b="0" i="1" lang="es-ES" sz="3600" spc="-1" strike="noStrike">
                <a:solidFill>
                  <a:srgbClr val="ffff66"/>
                </a:solidFill>
                <a:latin typeface="Verdana"/>
              </a:rPr>
              <a:t>Gracias por su atención.</a:t>
            </a:r>
            <a:br>
              <a:rPr sz="3600"/>
            </a:b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86600" y="6483240"/>
            <a:ext cx="175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Verdana"/>
              </a:rPr>
              <a:t>IDEA</a:t>
            </a:r>
            <a:r>
              <a:rPr b="1" i="1" lang="en-US" sz="2400" spc="-1" strike="noStrike">
                <a:solidFill>
                  <a:srgbClr val="ffff66"/>
                </a:solidFill>
                <a:latin typeface="Verdana"/>
              </a:rPr>
              <a:t>TI</a:t>
            </a:r>
            <a:r>
              <a:rPr b="1" i="1" lang="en-US" sz="2400" spc="-1" strike="noStrike">
                <a:solidFill>
                  <a:srgbClr val="0066cc"/>
                </a:solidFill>
                <a:latin typeface="Verdana"/>
              </a:rPr>
              <a:t>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514600" y="1981080"/>
            <a:ext cx="41148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900840" cy="1689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973600" y="3733920"/>
            <a:ext cx="505728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Asociación Gremial d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Indust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de la V Reg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Diciembre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880" y="21333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Fundada el 17 de Agosto de 1954, </a:t>
            </a:r>
            <a:r>
              <a:rPr b="1" lang="es-ES" sz="2400" spc="-1" strike="noStrike">
                <a:solidFill>
                  <a:srgbClr val="00ffcc"/>
                </a:solidFill>
                <a:latin typeface="Century Gothic"/>
              </a:rPr>
              <a:t>ASIVA</a:t>
            </a: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 es un asociación gremial de empresarios que agrupa al sector Industrial </a:t>
            </a:r>
            <a:r>
              <a:rPr b="0" lang="es-ES_tradnl" sz="2400" spc="-1" strike="noStrike">
                <a:solidFill>
                  <a:srgbClr val="ffff66"/>
                </a:solidFill>
                <a:latin typeface="Verdana"/>
              </a:rPr>
              <a:t>P</a:t>
            </a: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roductivo y Empresas de Servicio de la Quinta Regió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Cuenta con un total de 165 empresas asociadas, provenientes de las distintas localidades de la V Región, representadas por un directorio comprometido con la organizació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6858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</a:rPr>
              <a:t>Qué es </a:t>
            </a:r>
            <a:r>
              <a:rPr b="1" lang="es-ES" sz="4000" spc="-1" strike="noStrike">
                <a:solidFill>
                  <a:srgbClr val="00ffcc"/>
                </a:solidFill>
                <a:latin typeface="Century Gothic"/>
              </a:rPr>
              <a:t>ASIVA </a:t>
            </a:r>
            <a:r>
              <a:rPr b="1" lang="es-ES" sz="4000" spc="-1" strike="noStrike">
                <a:solidFill>
                  <a:srgbClr val="ffffff"/>
                </a:solidFill>
                <a:latin typeface="Century Gothic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5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cc"/>
                </a:solidFill>
                <a:latin typeface="Century Gothic"/>
              </a:rPr>
              <a:t>ASIVA</a:t>
            </a: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 representa los intereses de la industria regional ante el Gobierno Regional, el Congreso y el Gobierno Centr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cc"/>
                </a:solidFill>
                <a:latin typeface="Century Gothic"/>
              </a:rPr>
              <a:t>ASIVA</a:t>
            </a: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 posee alto reconocimiento y credibilidad por parte de las autoridades regionales y nacional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cc"/>
                </a:solidFill>
                <a:latin typeface="Century Gothic"/>
              </a:rPr>
              <a:t>ASIVA</a:t>
            </a: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 goza de una adecuada capacidad y poder de convocatoria entre sus asociado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cc"/>
                </a:solidFill>
                <a:latin typeface="Century Gothic"/>
              </a:rPr>
              <a:t>ASIVA</a:t>
            </a: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 promueve el uso de instrumentos de fomento productivo y de atracción de inversion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86600" y="6483240"/>
            <a:ext cx="175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Verdana"/>
              </a:rPr>
              <a:t>IDEA</a:t>
            </a:r>
            <a:r>
              <a:rPr b="1" i="1" lang="en-US" sz="2400" spc="-1" strike="noStrike">
                <a:solidFill>
                  <a:srgbClr val="ffff66"/>
                </a:solidFill>
                <a:latin typeface="Verdana"/>
              </a:rPr>
              <a:t>TI</a:t>
            </a:r>
            <a:r>
              <a:rPr b="1" i="1" lang="en-US" sz="2400" spc="-1" strike="noStrike">
                <a:solidFill>
                  <a:srgbClr val="0066cc"/>
                </a:solidFill>
                <a:latin typeface="Verdana"/>
              </a:rPr>
              <a:t>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24080" y="4038480"/>
            <a:ext cx="2895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66"/>
                </a:solidFill>
                <a:latin typeface="Verdana"/>
              </a:rPr>
              <a:t>IDEATIV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4680" y="4952880"/>
            <a:ext cx="74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yo objeto es desarrollar un cluster de empresas 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n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alparaíso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en conjunto con el sector públ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5040" y="2133720"/>
            <a:ext cx="683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l “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stituto de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sarrollo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mpresarial de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IVA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grupó a empresas y universidade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n el rubro de las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cnologías de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formación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municaciones formando una organ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enomin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7621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</a:rPr>
              <a:t>Cluster TI 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</a:rPr>
              <a:t>Motivació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0574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Verdana"/>
              </a:rPr>
              <a:t>Programa de Atracción de Inversiones de CORF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1240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Verdana"/>
              </a:rPr>
              <a:t>2. Prestigiosas Univers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733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Verdana"/>
              </a:rPr>
              <a:t>3. Calidad de v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4876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Verdana"/>
              </a:rPr>
              <a:t>5. Iniciativa y apoyo del Gobi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2814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Verdana"/>
              </a:rPr>
              <a:t>4. Estudios realizados (JIC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56386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Verdana"/>
              </a:rPr>
              <a:t>6. Visión de largo plaz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086600" y="6483240"/>
            <a:ext cx="175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Verdana"/>
              </a:rPr>
              <a:t>IDEA</a:t>
            </a:r>
            <a:r>
              <a:rPr b="1" i="1" lang="en-US" sz="2400" spc="-1" strike="noStrike">
                <a:solidFill>
                  <a:srgbClr val="ffff66"/>
                </a:solidFill>
                <a:latin typeface="Verdana"/>
              </a:rPr>
              <a:t>TI</a:t>
            </a:r>
            <a:r>
              <a:rPr b="1" i="1" lang="en-US" sz="2400" spc="-1" strike="noStrike">
                <a:solidFill>
                  <a:srgbClr val="0066cc"/>
                </a:solidFill>
                <a:latin typeface="Verdana"/>
              </a:rPr>
              <a:t>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57200" y="2209680"/>
            <a:ext cx="8077320" cy="44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Verdana"/>
                <a:ea typeface="Arial"/>
              </a:rPr>
              <a:t>Promoción y Atracción de Inversiones para la Creación de Empresas de Alta Tecnología no tradicionales (CORFO)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Incubadora de Negocios (FD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Capital Semilla (FD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FAT, PROFO, PDP, PAG, FONT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SENCE (beneficio tributar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</a:rPr>
              <a:t>1. Programas de Fomento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</a:rPr>
              <a:t>2. Prestigiosas Universidade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4" name="UTFSM_frontis" descr=""/>
          <p:cNvPicPr/>
          <p:nvPr/>
        </p:nvPicPr>
        <p:blipFill>
          <a:blip r:embed="rId1"/>
          <a:stretch/>
        </p:blipFill>
        <p:spPr>
          <a:xfrm>
            <a:off x="914400" y="4038480"/>
            <a:ext cx="3276720" cy="2490840"/>
          </a:xfrm>
          <a:prstGeom prst="rect">
            <a:avLst/>
          </a:prstGeom>
          <a:ln w="0">
            <a:noFill/>
          </a:ln>
        </p:spPr>
      </p:pic>
      <p:pic>
        <p:nvPicPr>
          <p:cNvPr id="115" name="ucv" descr=""/>
          <p:cNvPicPr/>
          <p:nvPr/>
        </p:nvPicPr>
        <p:blipFill>
          <a:blip r:embed="rId2"/>
          <a:stretch/>
        </p:blipFill>
        <p:spPr>
          <a:xfrm>
            <a:off x="6566040" y="2209680"/>
            <a:ext cx="2349360" cy="3810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61600" y="1905120"/>
            <a:ext cx="519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4 tradicionales y 6 priv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22% total de egresados TI de Chi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Potencial de I&amp;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</a:rPr>
              <a:t>3. Calidad de Vid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8" name="Valparaiso%20desde%20el%20cerro" descr=""/>
          <p:cNvPicPr/>
          <p:nvPr/>
        </p:nvPicPr>
        <p:blipFill>
          <a:blip r:embed="rId1"/>
          <a:stretch/>
        </p:blipFill>
        <p:spPr>
          <a:xfrm>
            <a:off x="304920" y="4362480"/>
            <a:ext cx="1904760" cy="1886040"/>
          </a:xfrm>
          <a:prstGeom prst="rect">
            <a:avLst/>
          </a:prstGeom>
          <a:ln w="0">
            <a:noFill/>
          </a:ln>
        </p:spPr>
      </p:pic>
      <p:pic>
        <p:nvPicPr>
          <p:cNvPr id="119" name="Reñaca" descr=""/>
          <p:cNvPicPr/>
          <p:nvPr/>
        </p:nvPicPr>
        <p:blipFill>
          <a:blip r:embed="rId2"/>
          <a:stretch/>
        </p:blipFill>
        <p:spPr>
          <a:xfrm>
            <a:off x="304920" y="2152800"/>
            <a:ext cx="1895400" cy="1904760"/>
          </a:xfrm>
          <a:prstGeom prst="rect">
            <a:avLst/>
          </a:prstGeom>
          <a:ln w="0">
            <a:noFill/>
          </a:ln>
        </p:spPr>
      </p:pic>
      <p:pic>
        <p:nvPicPr>
          <p:cNvPr id="120" name="Reloj%20turri" descr=""/>
          <p:cNvPicPr/>
          <p:nvPr/>
        </p:nvPicPr>
        <p:blipFill>
          <a:blip r:embed="rId3"/>
          <a:stretch/>
        </p:blipFill>
        <p:spPr>
          <a:xfrm>
            <a:off x="7010280" y="2209680"/>
            <a:ext cx="1764000" cy="3867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514600" y="3429000"/>
            <a:ext cx="41911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Espacios para recre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Calidad del a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Pais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Cl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Patrimonio Cultu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Verdana"/>
              </a:rPr>
              <a:t>Cercanía a Santia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8:02Z</dcterms:created>
  <dc:creator>Enrique Bettoli S.</dc:creator>
  <dc:description/>
  <dc:language>en-US</dc:language>
  <cp:lastModifiedBy>SOLAGW</cp:lastModifiedBy>
  <dcterms:modified xsi:type="dcterms:W3CDTF">2002-01-21T19:27:27Z</dcterms:modified>
  <cp:revision>120</cp:revision>
  <dc:subject/>
  <dc:title>Instituto de Capacitación Laboral ASIVA S.A.</dc:title>
</cp:coreProperties>
</file>